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61A-DCCA-403B-A228-C1BD1B89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D4F-CD01-4245-8897-08E69C33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0D6-4784-4086-94AD-00F2ADF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465-F007-4D37-BE3E-3B8FC4BA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78A2-A0C3-491C-8B34-1A481F23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061E-9BFB-44EC-9EC9-80353922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1E9-85F7-4F4B-B655-DFAD082D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D5E-50C4-492C-B3E9-CDD8AA87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4009-9754-4BEC-84D8-6621922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48A-0E7F-4C80-8CCE-115541F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D269-B402-4EF7-8ED8-8167681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4DD-D769-4166-BF16-201E5D7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8E3D-55BB-49C1-8443-B7C7C78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E42A-50DC-4259-9D3A-AF4E7AD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85A-24D9-445A-AC1A-CFAB0B30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2AC-0221-4CA1-A811-C3811A00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C96F-1B25-4674-88AB-115A93B2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A0F-6762-4697-A9FD-BB8ED82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453-D8B3-4ACA-BDC0-9F2FB19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A89-F611-4885-A3D9-C6C6BD9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F37-D1A9-4C44-AC71-F7BA8E53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567-7AB4-455E-9B35-C68E6E9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BDE-BB44-445F-B3A2-3DA3B55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8C9-932C-4F4B-8342-6EE842A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6EF-1DC7-442C-9CF2-98461CCDB2A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68C-3C66-4425-B503-14078508B55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IL SEICENTO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a08366"/>
                </a:solidFill>
                <a:latin typeface="Arial"/>
              </a:rPr>
              <a:t>Il secolo di ferro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C70-21CA-472B-BEBC-4F23A5E31FC2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Concorrenza tra gli stati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rande commercio internazionale e scontr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Non cresce la produzione e il commercio: accaparramento e limitazion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ntreccio Stato e grande finanz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mportazioni - esportazioni – dazi: attivo bilancia dei pagament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036-6015-4C6C-9E36-9639D10FAA9B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TO 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Conformismo e innovazione</a:t>
            </a:r>
            <a:r>
              <a:rPr b="0" lang="it-IT" sz="4400" spc="-1" strike="noStrike">
                <a:solidFill>
                  <a:srgbClr val="402000"/>
                </a:solidFill>
                <a:latin typeface="Times New Roman"/>
              </a:rPr>
              <a:t>: dalle guerre di religione all’origine della tolleranz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Legittimità e autorità</a:t>
            </a:r>
            <a:r>
              <a:rPr b="0" lang="it-IT" sz="4400" spc="-1" strike="noStrike">
                <a:solidFill>
                  <a:srgbClr val="402000"/>
                </a:solidFill>
                <a:latin typeface="Times New Roman"/>
              </a:rPr>
              <a:t>: resistenza, obbedienza, rivoluzion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B00-15D1-459B-8141-39FB50F18131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Repressione spagnol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Resistenza calvinis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Sviluppo economico, espansione demografica e commercial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Potenza economica di livello mondial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Da Anversa ad Amsterdam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RELIGIONE </a:t>
            </a: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65-0296-4EB4-9CE8-199F7BF88349}" type="slidenum">
              <a:t>12</a:t>
            </a:fld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viluppo del commercio, dell’agricoltura, del settore manifatturier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rande proprietà e privatizzazione: recinzioni (enclosures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Gentry (piccola nobiltà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Yeomen (ceti borghesi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mpoverimento dei contad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INGHILTER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47E-7D38-446B-BD7C-43C2C952CA11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coperta nuove terre, traffici coloniali, sovranità territori extraeuropei, colonialismo e mercantilismo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Formazione potente flotta di guerra per contrastare Olanda, Francia, Spagn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Supremazia marittima e commerciale sul mond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6633"/>
                </a:solidFill>
                <a:latin typeface="Times New Roman"/>
              </a:rPr>
              <a:t>INGHILTER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3E5-A16F-4EAE-8F8B-A70CD42A7E79}" type="slidenum">
              <a:t>14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996633"/>
                </a:solidFill>
                <a:latin typeface="Times New Roman"/>
              </a:rPr>
              <a:t>Crisi e ribaltamento degli equilibri economici</a:t>
            </a:r>
            <a:endParaRPr b="0" lang="en-US" sz="4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stagnazione demografic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alo della produz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iminuzione degli investiment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alo complessivo degli scambi commercial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, ristagno e depress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8E3-DE2F-474C-BCBC-059E3D13354F}" type="slidenum">
              <a:t>2</a:t>
            </a:fld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gnazione demografica</a:t>
            </a:r>
            <a:br>
              <a:rPr sz="4800"/>
            </a:br>
            <a:r>
              <a:rPr b="1" lang="it-IT" sz="3600" spc="-1" strike="noStrike">
                <a:solidFill>
                  <a:srgbClr val="996633"/>
                </a:solidFill>
                <a:latin typeface="Times New Roman"/>
              </a:rPr>
              <a:t>tra la fine del ‘500 e inizio del ‘700</a:t>
            </a:r>
            <a:br>
              <a:rPr sz="3200"/>
            </a:br>
            <a:br>
              <a:rPr sz="4800"/>
            </a:b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41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Times New Roman"/>
              </a:rPr>
              <a:t>Cause e interdipendenza</a:t>
            </a:r>
            <a:r>
              <a:rPr b="1" lang="it-IT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guerra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dei trent’anni)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carestia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difficoltà agricoltura) 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1" lang="it-IT" sz="4200" spc="-1" strike="noStrike">
                <a:solidFill>
                  <a:srgbClr val="402000"/>
                </a:solidFill>
                <a:latin typeface="Times New Roman"/>
              </a:rPr>
              <a:t>peste</a:t>
            </a:r>
            <a:r>
              <a:rPr b="0" lang="it-IT" sz="4200" spc="-1" strike="noStrike">
                <a:solidFill>
                  <a:srgbClr val="402000"/>
                </a:solidFill>
                <a:latin typeface="Times New Roman"/>
              </a:rPr>
              <a:t> (intera Europa)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5E0-A89F-4FBD-8916-770448A52C91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6633"/>
                </a:solidFill>
                <a:latin typeface="Times New Roman"/>
              </a:rPr>
              <a:t>Stagnazione demografica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Flessione nell’area mediterrane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 regioni del nord Europ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Maggiore intensità delle crisi agricole e rigidità del siste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Peggioramento del cli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135-35E1-4D62-94CC-A407CE73028B}" type="slidenum">
              <a:t>4</a:t>
            </a:fld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Fase economica complessa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Depressione: diminuzione investimenti, riduzione scambi commerciali, caduta prezz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Sviluppo: riorganizzazione economia europea e ribaltamento equilibri (stati mediterranei e atlantici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2000"/>
                </a:solidFill>
                <a:latin typeface="Times New Roman"/>
              </a:rPr>
              <a:t>Crisi “polivalente”: Polonia e Inghilter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7FC-4165-4F70-AB5A-049D131B0EAF}" type="slidenum">
              <a:t>5</a:t>
            </a:fld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Fase economica complessa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Rifeudalizzaz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Europa dell’Est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Inghilterra – Olanda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Ristagno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Francia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epressione</a:t>
            </a:r>
            <a:r>
              <a:rPr b="0" lang="it-IT" sz="4000" spc="-1" strike="noStrike">
                <a:solidFill>
                  <a:srgbClr val="402000"/>
                </a:solidFill>
                <a:latin typeface="Times New Roman"/>
              </a:rPr>
              <a:t> (Spagna, Portogallo, Italia, Impero Ottomano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337-97DB-4B81-BE5F-F8D71682FD2E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Colonialismo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Imperi coloniali parte integrante del sistema economico europeo: economia mond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spansione tratta degli schiav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Atlantizzazi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Controllo del Mediterrane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65D-2AE8-4BC3-ADB6-BE8A1BC0D5C5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996633"/>
                </a:solidFill>
                <a:latin typeface="Times New Roman"/>
              </a:rPr>
              <a:t>Sostituzioni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a al posto dell’Italia nella produzione manifatturier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esi al posto dei portoghesi nel commercio con l’India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Olandesi e inglesi al posto di Venezia nel Mediterrane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02000"/>
                </a:solidFill>
                <a:latin typeface="Times New Roman"/>
              </a:rPr>
              <a:t>I mercati rimanevano comunque stazionar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B68-CEBA-4D76-8D31-9939F1ACF9F5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996633"/>
                </a:solidFill>
                <a:latin typeface="Times New Roman"/>
              </a:rPr>
              <a:t>STATO E SOCIETA’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Assolutismo e mercantilism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Intervento dello stato in econom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Difesa della moneta e dei metalli preziosi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02000"/>
                </a:solidFill>
                <a:latin typeface="Times New Roman"/>
              </a:rPr>
              <a:t>Economia nazionale e protezionismo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E7C-A2CB-44EF-B83E-335DCA0F6A50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0T20:03:02Z</dcterms:created>
  <dc:creator>Distefano</dc:creator>
  <dc:description/>
  <dc:language>en-US</dc:language>
  <cp:lastModifiedBy>.</cp:lastModifiedBy>
  <cp:lastPrinted>1998-03-26T06:40:34Z</cp:lastPrinted>
  <dcterms:modified xsi:type="dcterms:W3CDTF">2008-05-08T18:08:37Z</dcterms:modified>
  <cp:revision>28</cp:revision>
  <dc:subject/>
  <dc:title>Manuale di storia per il triennio</dc:title>
</cp:coreProperties>
</file>